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7EBF-EC2B-4B4A-AFCD-76D7B058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6D58-1C90-452A-894F-B69C4C1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8307-A377-480C-9125-01B53476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0650-12CC-448B-81BE-D19FCFCD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B818-1FAD-41B0-B155-0B3AA1D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AB59-E241-4006-9C47-0906EB0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E7B-394B-4DD0-8AF3-9BA02C6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860-CF3E-4C98-903D-EB3D93DA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E88-CAB4-4ED3-9A31-E0623DC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F43-DCCE-4455-9FA3-C902B1A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0666-F6E4-46CB-8082-18E6BDE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A6F0-E719-46C7-98A9-778916F4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B31B-6925-435E-B4AB-5EA2974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6BDE-638A-4F84-A66C-E54B808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8183-31EC-4AC8-A8FD-7766839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C4E4-8D8F-4F40-A161-35061CB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092-9BA4-4ECE-B30A-8ACC688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80CD-B9B6-4E21-9F52-8C57891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3D55-82B3-49C4-9CB8-9B234CA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3F5D-23EF-4DCD-9805-D9EDA5AB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22B3-81D8-41AE-AFA5-E835B76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06A7-C11E-4A59-96ED-F120E42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AF73-A8A2-40C2-B6A3-2669FB7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1E6D-071B-4276-B557-20E219C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84360" y="260280"/>
            <a:ext cx="612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48720" y="304920"/>
            <a:ext cx="39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0EFB-C56E-4F9B-AD21-377E63EAD380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076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68360" y="6308280"/>
            <a:ext cx="446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97E0-56F6-4F6F-AE35-97254571E54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AE6-6D65-4A59-9458-FE68F412043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13192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uropass Website Re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5873760"/>
            <a:ext cx="269244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58400" y="3382560"/>
            <a:ext cx="694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Sneak P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327640"/>
            <a:ext cx="694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mitris Zavaliadis, Europass Technic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390920"/>
            <a:ext cx="6945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aga, 10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esign’s Mai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50120" y="1557360"/>
            <a:ext cx="26589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852640"/>
            <a:ext cx="6119640" cy="194472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mprove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800" spc="-1" strike="noStrike">
                <a:solidFill>
                  <a:srgbClr val="0066ff"/>
                </a:solidFill>
                <a:latin typeface="Arial"/>
              </a:rPr>
              <a:t>User 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F965-C354-4124-A2AC-C0D5DCF0D0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pects of User Experience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02080"/>
            <a:ext cx="3313080" cy="935280"/>
          </a:xfrm>
          <a:prstGeom prst="wedgeRoundRectCallout">
            <a:avLst>
              <a:gd name="adj1" fmla="val 36439"/>
              <a:gd name="adj2" fmla="val -98046"/>
              <a:gd name="adj3" fmla="val 16667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You can’t use what you can’t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4581360"/>
            <a:ext cx="2519280" cy="1224000"/>
          </a:xfrm>
          <a:prstGeom prst="wedgeRoundRectCallout">
            <a:avLst>
              <a:gd name="adj1" fmla="val -63800"/>
              <a:gd name="adj2" fmla="val -45717"/>
              <a:gd name="adj3" fmla="val 16667"/>
            </a:avLst>
          </a:prstGeom>
          <a:solidFill>
            <a:srgbClr val="bbe0e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You can’t use what you can’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637000"/>
            <a:ext cx="2016360" cy="1655640"/>
          </a:xfrm>
          <a:prstGeom prst="wedgeRoundRectCallout">
            <a:avLst>
              <a:gd name="adj1" fmla="val -71180"/>
              <a:gd name="adj2" fmla="val -10115"/>
              <a:gd name="adj3" fmla="val 16667"/>
            </a:avLst>
          </a:prstGeom>
          <a:solidFill>
            <a:srgbClr val="bbe0e3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Humans are visible beings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484280"/>
            <a:ext cx="3241800" cy="865080"/>
          </a:xfrm>
          <a:prstGeom prst="wedgeRoundRectCallout">
            <a:avLst>
              <a:gd name="adj1" fmla="val 32958"/>
              <a:gd name="adj2" fmla="val 83759"/>
              <a:gd name="adj3" fmla="val 166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ase of use is vital but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950080"/>
            <a:ext cx="4321080" cy="577800"/>
          </a:xfrm>
          <a:prstGeom prst="wedgeRoundRectCallout">
            <a:avLst>
              <a:gd name="adj1" fmla="val -41879"/>
              <a:gd name="adj2" fmla="val -148902"/>
              <a:gd name="adj3" fmla="val 16667"/>
            </a:avLst>
          </a:prstGeom>
          <a:solidFill>
            <a:srgbClr val="bbe0e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rust is key to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1557360"/>
            <a:ext cx="3095640" cy="576360"/>
          </a:xfrm>
          <a:prstGeom prst="wedgeRoundRectCallout">
            <a:avLst>
              <a:gd name="adj1" fmla="val -57537"/>
              <a:gd name="adj2" fmla="val 6680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levance i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3213000"/>
            <a:ext cx="2376360" cy="1224000"/>
          </a:xfrm>
          <a:prstGeom prst="wedgeRoundRectCallout">
            <a:avLst>
              <a:gd name="adj1" fmla="val 114597"/>
              <a:gd name="adj2" fmla="val -5513"/>
              <a:gd name="adj3" fmla="val 16667"/>
            </a:avLst>
          </a:prstGeom>
          <a:solidFill>
            <a:srgbClr val="bbe0e3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he bottom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liv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524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.k.a. the User Experience Honeycomb (Peter Morv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1D2B-F776-426A-A3BF-5F30C9A9B9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isting Website vs. Honey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2560" y="5445000"/>
            <a:ext cx="79236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213000"/>
            <a:ext cx="216036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e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89320" y="5445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5800" y="1844640"/>
            <a:ext cx="1727280" cy="2089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ight increase even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292640"/>
            <a:ext cx="172728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refore th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A9E4-BD6B-4A48-8AA7-52628A70A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Usabil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0905-A846-4427-8BA4-4F661C3C5E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BA19-2B84-4755-A7C2-0F292D2115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site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site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nstruments redesign spec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instruments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instruments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B252-99FF-4898-92C6-69BBB5DB3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8DEA-09E4-47E6-87C3-77ADB0E794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45:30Z</dcterms:created>
  <dc:creator>Zavaliadis Dimitris</dc:creator>
  <dc:description/>
  <dc:language>en-US</dc:language>
  <cp:lastModifiedBy>europassx3</cp:lastModifiedBy>
  <dcterms:modified xsi:type="dcterms:W3CDTF">2011-05-06T18:43:21Z</dcterms:modified>
  <cp:revision>1649</cp:revision>
  <dc:subject/>
  <dc:title>Europass cooperation with external applications</dc:title>
</cp:coreProperties>
</file>